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BEA7-E132-4F57-B036-1E72C3248EC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: pop up su alcuni esempi su cui riflettere a pagina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. Pop up su proporc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482760" y="380880"/>
            <a:ext cx="10109520" cy="649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"/>
          <p:cNvGraphicFramePr/>
          <p:nvPr/>
        </p:nvGraphicFramePr>
        <p:xfrm>
          <a:off x="-453960" y="6858000"/>
          <a:ext cx="101059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453960" y="6858000"/>
                    <a:ext cx="101059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" name=""/>
          <p:cNvGraphicFramePr/>
          <p:nvPr/>
        </p:nvGraphicFramePr>
        <p:xfrm>
          <a:off x="-482760" y="-27000"/>
          <a:ext cx="10109520" cy="7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482760" y="-27000"/>
                    <a:ext cx="1010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042920" y="501480"/>
            <a:ext cx="4081680" cy="24624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Lezione 1: i fattori che incidono nella scelta della rice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2920" y="58680"/>
            <a:ext cx="5851440" cy="58068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Metodologia della ricerca  in educazione e formazione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25880" y="6948360"/>
            <a:ext cx="900000" cy="23400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7BB5-9DAA-4160-ADF1-BEDB060D5A05}" type="slidenum">
              <a:rPr b="1" lang="it-IT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it-IT" sz="800" spc="-1" strike="noStrike">
                <a:solidFill>
                  <a:srgbClr val="ffffff"/>
                </a:solidFill>
                <a:latin typeface="Verdana"/>
              </a:rPr>
              <a:t> i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-466560" y="803160"/>
            <a:ext cx="8820000" cy="2415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68360" y="804960"/>
            <a:ext cx="8791560" cy="239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62000" y="2478240"/>
            <a:ext cx="655344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 fattori che incidono nella scelta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 questa lezione saranno trattati i seguenti argomen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roduzione: la scelta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in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es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>
            <a:lum contrast="-6000"/>
          </a:blip>
          <a:stretch/>
        </p:blipFill>
        <p:spPr>
          <a:xfrm>
            <a:off x="666720" y="2259000"/>
            <a:ext cx="12002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7680" y="14763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cciamo un altro esempio. Leggi la frase seguente, secondo te cosa signific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38280" y="5892840"/>
            <a:ext cx="4248360" cy="476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666880" y="5854680"/>
            <a:ext cx="381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i alla pagina successiva per vedere la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1200" y="2557440"/>
            <a:ext cx="8076960" cy="1595520"/>
          </a:xfrm>
          <a:prstGeom prst="rect">
            <a:avLst/>
          </a:prstGeom>
          <a:solidFill>
            <a:srgbClr val="bfcfe0"/>
          </a:solidFill>
          <a:ln w="15840">
            <a:solidFill>
              <a:srgbClr val="000099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85760" y="2905200"/>
            <a:ext cx="73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«Carlo fa l'amore con sua moglie due  volte la settimana, anche Luigi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143000" y="4387680"/>
            <a:ext cx="6858000" cy="1325520"/>
            <a:chOff x="1143000" y="4387680"/>
            <a:chExt cx="6858000" cy="1325520"/>
          </a:xfrm>
        </p:grpSpPr>
        <p:sp>
          <p:nvSpPr>
            <p:cNvPr id="116" name=""/>
            <p:cNvSpPr/>
            <p:nvPr/>
          </p:nvSpPr>
          <p:spPr>
            <a:xfrm>
              <a:off x="1143000" y="4876560"/>
              <a:ext cx="327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) Carlo e Luigi fanno l’amo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n le rispettive mogli du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volte la settiman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18240" y="4387680"/>
              <a:ext cx="494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Questa frase può essere interpretata in due modi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4280" y="4889160"/>
              <a:ext cx="327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b) Carlo e Luigi fanno l’amo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n la moglie di Carlo du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volte la settiman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438280" y="6076800"/>
            <a:ext cx="4267440" cy="307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ratto da: Umberto Eco, </a:t>
            </a:r>
            <a:r>
              <a:rPr b="0" i="1" lang="it-IT" sz="1400" spc="-1" strike="noStrike">
                <a:solidFill>
                  <a:srgbClr val="000000"/>
                </a:solidFill>
                <a:latin typeface="Tahoma"/>
              </a:rPr>
              <a:t>Lector in Fabul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,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1200" y="2557440"/>
            <a:ext cx="8076960" cy="1595520"/>
          </a:xfrm>
          <a:prstGeom prst="rect">
            <a:avLst/>
          </a:prstGeom>
          <a:solidFill>
            <a:srgbClr val="bfcfe0"/>
          </a:solidFill>
          <a:ln w="15840">
            <a:solidFill>
              <a:srgbClr val="000099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85760" y="2905200"/>
            <a:ext cx="73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«Carlo fa l'amore con sua moglie due  volte la settimana, anche Luigi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-2404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38800" y="2095560"/>
            <a:ext cx="4114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testo istitu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o dei principali condizionamenti è il contest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stituzion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mativ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362480" y="3429000"/>
          <a:ext cx="4267080" cy="1938240"/>
        </p:xfrm>
        <a:graphic>
          <a:graphicData uri="http://schemas.openxmlformats.org/drawingml/2006/table">
            <a:tbl>
              <a:tblPr/>
              <a:tblGrid>
                <a:gridCol w="1600200"/>
                <a:gridCol w="26668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tituzion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io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i Loca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e inte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itu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gg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olam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posizioni amministr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28560" y="2432160"/>
            <a:ext cx="2374920" cy="267948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514440" y="5859360"/>
            <a:ext cx="8115120" cy="82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isbon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l’Unione Europea ha chiesto che tutti i paesi membri raggiungano entro il 2010 alcuni standard formativi. Per cui, le singole autorità politiche dei paesi dovrebbero chiedere ai ricercatori gli strumenti idonei a raggiungere tali risult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2133720"/>
            <a:ext cx="3733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 collettività e i decisori politivi possono influenzare gli orientamenti della ricer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esto aspetto è in parte ragionevole e condivisibile, in parte rischio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010120" y="4540320"/>
            <a:ext cx="714240" cy="7398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5410080" y="4724280"/>
            <a:ext cx="261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Verdana"/>
              </a:rPr>
              <a:t> </a:t>
            </a:r>
            <a:r>
              <a:rPr b="1" lang="en-US" sz="1200" spc="-1" strike="noStrike" u="sng">
                <a:solidFill>
                  <a:srgbClr val="000099"/>
                </a:solidFill>
                <a:uFillTx/>
                <a:latin typeface="Verdana"/>
              </a:rPr>
              <a:t>Alcuni esempi sui cui riflett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66720" y="1905120"/>
            <a:ext cx="2671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1400" y="2854440"/>
            <a:ext cx="25444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nanziamenti pubblic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one Europ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ten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UR -&gt; COF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NISTE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G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TI LOC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nanziamenti privat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re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nd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9960" y="1943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 fare una ricerca occorrono risorse finanziarie, ecco alcune fonti di finanzi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81600" y="2743200"/>
            <a:ext cx="419076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2038320"/>
            <a:ext cx="3962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 le risorse che incidono sulla scelta del problema c’è anche il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mpo disponibi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cune volte tale tempo è assegnato, altre volte è condizionato da fattori che sfuggono al control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generale è consigliabile progettare con cura i tempi di una ricerca, perché si possono commettere molti error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38120" y="2038320"/>
            <a:ext cx="33908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81160" y="2187720"/>
            <a:ext cx="685800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epilogando quanto visto finora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lla scelta della ricerca intervengono degli elementi condizionanti interni ed estern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nti interni sono: i valori del ricercatore, il paradigma scientifico, la metodologia del ricercato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paradigma scientifico è un quadro di riferimento che rappresenta la prospettiva dalla quale osserviamo la realtà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esterni sono: il contesto istituzionale, le politiche educative, le risorse disponibil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330120" y="76212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Riepi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0" y="1768320"/>
            <a:ext cx="117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1454040"/>
            <a:ext cx="8763120" cy="4730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0880" y="1569960"/>
            <a:ext cx="8763120" cy="43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cco alcuni esempi su cui riflett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 Italia, ad esempio il referendum sull’energia nucleare ha portato all’abbandono di quest’area di ricer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a legge sulle cellule staminali limita la ricerca e ha provocato reazioni da gran parte della comunità scientif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cardinale Roberto Bellarmino, successivamente Santo, costrinse Galileo ad abiurare rispetto ai risultati delle ricerche da lui ottenu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urante il fascismo si decise di non favorire lo sviluppo della ricerca in Psicologia e Sociologia tanto che nel nostro Paese le prima facoltà di Psicologia e Sociologia nascono negli anni ’60. Sempre durante il fascismo si richiedeva ai docenti universitari un giuramento di fedeltà al reg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empre durante il fascismo si richiese ai docenti universitari un giuramento di fedeltà al regime che, inevitabilmente, poneva seri limiti alla libertà di ricer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172080" y="762120"/>
            <a:ext cx="331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ntroduzione: la scelta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37160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’ambito dell’educazione e della formazione, la ricerca nasce dalla consapevolezza di un problema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ituazione problematic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e dall’idea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potes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che esista una risposta utile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oluzione del problem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a ristabilire l’equilib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16457"/>
          <a:stretch/>
        </p:blipFill>
        <p:spPr>
          <a:xfrm>
            <a:off x="0" y="2197080"/>
            <a:ext cx="843912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53000" y="762120"/>
            <a:ext cx="331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ntroduzione: la scelta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33640" y="2762280"/>
            <a:ext cx="3353040" cy="2138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352440" y="4119480"/>
            <a:ext cx="3071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radigma scientif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alori del ricerc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etodologia del ricerc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87320" y="4691160"/>
            <a:ext cx="24998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testo istitu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olitiche educ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orse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760" y="15717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lla scelta del problema e nella definizione delle ipotesi, intervengono degli elementi condizionanti che provengono sia dall’interno che dall’este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361800" y="3905280"/>
            <a:ext cx="3295440" cy="16621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2960" y="3676680"/>
            <a:ext cx="0" cy="2286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10360" y="4654440"/>
            <a:ext cx="2933640" cy="13464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34280" y="4425840"/>
            <a:ext cx="0" cy="22860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86680" y="3659040"/>
            <a:ext cx="2133360" cy="785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izionam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stern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0120" y="2914560"/>
            <a:ext cx="1876320" cy="1059840"/>
          </a:xfrm>
          <a:prstGeom prst="rect">
            <a:avLst/>
          </a:prstGeom>
          <a:solidFill>
            <a:srgbClr val="bfcfe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izionam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57880" y="306720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edo sia meglio fare così 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2090880"/>
            <a:ext cx="40384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primo condizionamento interno è il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aradigma scientific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vale a dire un quadro di riferimento che rappresenta la prospettiva dalla quale osserviamo la realtà e, nel nostro caso, la nostra società e i fatti educativ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diamo più in dettaglio di cosa si tratt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2362320" cy="22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438280" y="2530440"/>
            <a:ext cx="19051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2266920"/>
            <a:ext cx="3429000" cy="26668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705720" y="2878200"/>
            <a:ext cx="1600200" cy="1522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0840" y="2000160"/>
            <a:ext cx="41925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siamo definire il paradigma scientifico come l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spettiva teorica condivis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 riconosciuta dalla comunità degli scienziati di una determinato momento stor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le prospettiva teorica si basa sulle precedenti acquisizioni della scienza stessa ed indirizza la ricerc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a formulazione delle ipotesi entr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ui collocare la spiegazione 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nomeno osservat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a scelta delle tecniche di ricer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pir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722840" y="2571840"/>
            <a:ext cx="1982880" cy="1901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986600" y="3029040"/>
            <a:ext cx="8524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25236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2438280"/>
            <a:ext cx="1684440" cy="762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SSU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14760" y="1279440"/>
            <a:ext cx="40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paradigmi sono costituiti 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581280"/>
            <a:ext cx="4011840" cy="21337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nostri giudizi su come vanno le cose nel mondo empir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ssi comprendono l’insieme delle conoscenze di cui disponiamo nel modo in cui le abbiamo riassunte in teorie e legg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07080" y="2438280"/>
            <a:ext cx="16844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AL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3581280"/>
            <a:ext cx="4011840" cy="21337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iò che le persone ritengono giusto o desiderabi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nno connotazione puramente soggettiva. Qualcuno tenta di negare l'esistenza di una propria particolare prospettiva di analisi e la assume come prospettiva assolu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381400" y="2825640"/>
            <a:ext cx="4343400" cy="366840"/>
          </a:xfrm>
          <a:prstGeom prst="rect">
            <a:avLst/>
          </a:prstGeom>
          <a:solidFill>
            <a:srgbClr val="cfdcf5"/>
          </a:solidFill>
          <a:ln w="9360">
            <a:solidFill>
              <a:srgbClr val="2845c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ahoma"/>
              </a:rPr>
              <a:t>IL FINE DELL’EDUCAZIONE 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26640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640" y="15177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le seguenti due definizioni del fine dell’educazione,  sono antitetiche perché hanno alla loro base valori oppos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4343400"/>
            <a:ext cx="3429000" cy="1618560"/>
          </a:xfrm>
          <a:prstGeom prst="rect">
            <a:avLst/>
          </a:prstGeom>
          <a:solidFill>
            <a:srgbClr val="bfcfe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smare il comportamento dei giovani in modo che possano integrarsi nella società attu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4343400"/>
            <a:ext cx="3581640" cy="916920"/>
          </a:xfrm>
          <a:prstGeom prst="rect">
            <a:avLst/>
          </a:prstGeom>
          <a:solidFill>
            <a:srgbClr val="bfcfe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eparare i giovani in modo che possano cambiare in meglio la società attu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40687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Verdana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343400" y="4495680"/>
            <a:ext cx="457200" cy="5335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309840" y="3333600"/>
            <a:ext cx="389160" cy="857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443560" y="3352680"/>
            <a:ext cx="3888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1447920"/>
            <a:ext cx="3962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cuni ricercatori vivono l’approccio metodologico in termini di appartenenza ad una scuo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 questa ragione, selezionano i problemi in relazione a come si prestano ad essere esaminati con gli strumenti della scuola stes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1680" y="2286000"/>
            <a:ext cx="2400120" cy="27432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666720" y="5489640"/>
            <a:ext cx="8115480" cy="1189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 ricercatore di scuola cognitivista, ad esempio, affronterà problemi relativi alla memoria e all’elaborazione dell’informazione, piuttosto che fare ricerche su problemi relativi gli aspetti sociali ed emotivi nell’apprendi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2095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841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 forte condizionamento interno è costituito dagli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chemi mental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Ognuno di noi, infatti, e quindi anche il ricercatore, vede le cose attraverso i propri schemi. Facciamo un esempio. Nell’immagine sottos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57150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cuni vedono una lep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56386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tri vedono un’anat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581280" y="3060720"/>
            <a:ext cx="2011320" cy="1282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19320" y="4313160"/>
            <a:ext cx="1331640" cy="1325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718240" y="4167360"/>
            <a:ext cx="167328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09:19:28Z</dcterms:created>
  <dc:creator>riccardo santilli</dc:creator>
  <dc:description/>
  <dc:language>en-US</dc:language>
  <cp:lastModifiedBy>Università degli studi di Roma "La Sapienza"</cp:lastModifiedBy>
  <dcterms:modified xsi:type="dcterms:W3CDTF">2011-03-24T14:00:26Z</dcterms:modified>
  <cp:revision>581</cp:revision>
  <dc:subject/>
  <dc:title>Presentazione di PowerPoint</dc:title>
</cp:coreProperties>
</file>